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68C-06CB-495F-A6C5-CDBDC3CE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2E6-5DB0-40D6-8D50-1277AA0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C1C-4C1C-4CC4-9F53-075D6F3B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BB9-FD66-4219-A1BD-7E82EF8B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4C9-2CB5-4471-88E6-8C6AADD4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423-AA50-48EE-81D9-A2158A3A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9FE-5585-4925-BC7D-5328E3C3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A31-B6BC-40CF-A86F-38C1D3E0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091-780C-4980-9418-EA535439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6EC-4D28-46D2-9E0A-F35A71C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3A3-EE17-4201-9BDE-646116D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66F-85C6-43CE-B214-8273AD8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A202-BF95-4C0E-B78D-D1E648026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e llamo ___________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ase 8 IM</a:t>
            </a:r>
            <a:br>
              <a:rPr sz="3600"/>
            </a:b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La fecha es el 31 de enero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Propósito # 30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¿Quiénes son las Hermanas Mirab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ctiv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ctive notes during the following Power Point Presentation and V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Hermanas Mira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 important facts in the arti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irabal Sisters: Las Mariposas / The Butterf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 the arti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egendary Butterflies: The Mirabal Sisters’ Legacy of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are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# 30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BUTTERFLY PROJECT BY F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21:11:52Z</dcterms:created>
  <dc:creator>Helen Zumaeta</dc:creator>
  <dc:description/>
  <dc:language>en-US</dc:language>
  <cp:lastModifiedBy>Helen Zumaeta</cp:lastModifiedBy>
  <dcterms:modified xsi:type="dcterms:W3CDTF">2012-01-30T21:13:46Z</dcterms:modified>
  <cp:revision>2</cp:revision>
  <dc:subject/>
  <dc:title>Me llamo ___________ Clase 8 IM La fecha es el 31 de enero del 2012</dc:title>
</cp:coreProperties>
</file>